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DB27F-CA78-473D-8D3A-0C836CFF10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656D-DFFE-489F-B49A-3A30610A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A9DE5-3686-479B-BA31-F6718C99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3F7BA-C7EF-4545-A088-BC86115445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6A35-DCB1-49A7-8B08-43D469CD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03A45-7E3F-45D3-85B0-170BB47C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2608E-B58F-4DB6-9220-BC9A2030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E25AF-1E8C-4058-8AD5-4F42287AC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4DC0F-527D-488A-AF7F-E74EBF5C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F9E53-3164-48FF-BCDE-8B440579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C6A2D-27E2-4984-A663-FE63C692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7B689-383F-4E6E-B00B-3554BAF4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034E-5908-42EA-82A3-495F7724880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水、电解质、酸碱平衡调节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肺水肿、高钠血症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心、肺、肾功能不全者或血浆蛋白过低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监测血电解质以及血气分析结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患者的心、肺、肾功能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，尤其血压、心率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高渗氯化钠时，滴速应慢，密切观察有无高钠血症出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是细胞内液最主要的阳离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细胞内液的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血清钾浓度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5~5.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每日需要钾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的主要生理功能是维持细胞的正常代谢、维持细胞内液的渗透压和酸碱平衡、维持神经肌肉应激性、心肌收缩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各种原因引起的低钾血症，洋地黄中毒引起的阵发性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后吸收迅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主要经肾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钾自粪便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量自唾液、汗腺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饭后服用；小儿宜用溶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，须用生理盐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稀释后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浓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4g/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75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含化、咀嚼或干咽，可引起口腔、食管及胃肠道黏膜损伤，甚至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腹服用时有胃肠道不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能因补钾过多、过快出现高钾血症，甚至导致心搏骤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时易刺激血管引起疼痛或发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旦外渗可导致局部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损害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任何原因可能并发高钾血症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化钾直接静脉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格按医嘱补钾，注意剂量、浓度与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期间监测血电解质、心电图、血气分析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补钾时，尿量不得小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0ml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。一旦出现外渗，应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指导患者正确服药，并适当进食富含钾的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肾上腺糖皮质激素合用，可降低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抗胆碱能药物或非甾体类抗炎镇痛药合用，能加重钾盐对胃肠道的刺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血管紧张素转换酶抑制类药物、环孢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用，易发生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肝素合用，不仅易发生高钾血症，还增加胃肠道出血的机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钾能抑制肠道对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吸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钾利尿药、青霉素钾合用，可导致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化钠、氯化钾、葡萄糖酸钙、碳酸氢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油磷酸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乳酸钠、胺丁三醇、氯化胺的作用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人血清钙浓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25~2.50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与磷共同参与凝血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调节酶的活性、维持神经和肌肉兴奋性、降低毛细血管和细胞膜的通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浓度的钙与镁有竞争性拮抗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能促进骨骼和牙齿的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主要用于血钙过低引起的低钙抽搐，胆、肠、肾绞痛，甲状旁腺功能低下症，荨麻疹、血管神经性水肿、皮肤瘙痒症，软骨病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还可用于高钾血症、高镁血症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钙剂经小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粪便排泄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肾排泄；少量也由唾液、汗腺、乳汁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片剂，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注射，一般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稀释后缓慢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对胃肠道有刺激，偶见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注射时全身发热、皮肤红、注射部位疼痛、血压下降、心动过缓或其他心律失常，晕厥、心搏骤停，若局部外渗，可引起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钙血症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洋地黄期间以及停用洋地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内，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、肾功能不全、呼吸性酸中毒、呼吸衰竭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时应稀释，并缓慢推注。不可皮下或肌内注射。一旦外渗，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饭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生命体征，尤其是血压和心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茶水服用，以防影响钙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雌激素同用，可增加钙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苯妥英钠同用，可产生不吸收的化合物，影响二者的生物利用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四环素同时口服，影响四环素的吸收，必须间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噻嗪类利尿药合用，易发生高钙血症；与其他含钙、镁药物合用，易发生高钙或高镁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纤维素合用，会降低硫酸纤维素预防高钙血症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镁合用，可形成硫酸钙沉淀，降低两者疗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剂静脉注射可降低肌松药（琥珀胆碱除外）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钙通道阻滞剂合用，血钙可明显增高，而维拉帕米的作用则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新斯的明合用，能迅速对抗氨基糖苷类抗生素过量引起的呼吸肌麻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洋地黄合用，可增强洋地黄毒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磷多存在于骨骼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可以磷脂的形式参与细胞膜的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与糖代谢中的糖磷酸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构成膜成分中的磷脂质，是组成细胞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R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许多辅酶的重要成分之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参与能量的转换贮藏、输送及体液缓冲功能的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。阵发性腹痛，伴频繁呕吐，停止排气、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。诉口渴，尿少、乏力。拟诊“急性肠梗阻”入院。入院后又呕吐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1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86/60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表情淡漠，呼吸深快，眼窝下陷，口唇干燥，皮肤弹性差，颜面略潮红。腹部见肠型，脐周有广泛的压痛，肠鸣音亢进，膝反射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静脉营养时满足人体每天对磷的需要以及纠正低磷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吸收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主要在空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0%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磷由肾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用药可引起血磷、血钙浓度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可导致高磷血症、低钙血症、肌肉颤动、痉挛、胃肠道不适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、休克和脱水患者，对本品过敏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未经稀释不能注射；稀释后应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控制给药速度，一般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36~0.54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甲状旁腺激素合用，可促进磷的吸收；降钙素可抑制磷的吸收。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K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可出现鹅绒黄色混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代谢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以碱化尿液，防止磺胺结晶对泌尿系统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碱化细胞外液，从而治疗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可用于治疗口腔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、肾衰竭、低钾血症等患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常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 Na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静脉滴注，过快输入可导致高钠血症。与钙剂混合可形成沉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过程中可出现低钾血症、低钙血症、呼吸困难等。应监测血气分析、血电解质、肾功能、血压、心肺功能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乳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lac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酸血症，用于高钾血症或普鲁卡因胺引起的心律失常伴酸血症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碱化尿液，用于尿酸结石、小儿肠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肝功能减退、水肿、休克缺氧、心功能不全以及乳酸潴留引起的酸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过量可致碱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宜用生理盐水或含氯化钠的溶液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氨丁三醇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rometamo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代谢性酸中毒，也可用于呼吸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有穿透细胞速度快又不含钠的优点，适用于限钠的酸中毒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尿、尿闭、妊娠、肾损害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慢性呼吸性酸中毒、肾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氨丁三醇时注意量及速度，大量快速滴注可引起呼吸抑制、低血压、低血糖、低血钙等，且对组织刺激大，可致血栓性静脉炎，一旦外渗可致组织坏死。故应缓慢滴注，注意呼吸情况以及有无低血糖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纠正代谢性碱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使用可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硬化伴代谢性碱中毒或心力衰竭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时，易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服用氯化铵可出现恶心、呕吐、腹痛等胃肠道刺激症状，宜用水溶解后服用，溃疡病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输注氯化钾时，应注意保持尿量每小时不能低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4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5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H7.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二氧化碳结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84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补液，溶液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盐水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溶液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NaHCO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医嘱给予患者上述液体的目的是什么？②在补液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量输注生理盐水可导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钠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钠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钠离子和氯离子，调节体内水和电解质的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钠是细胞外液最主要的阳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35~14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是血浆内主要的阴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8~106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体液正常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口湿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酶或稀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黏膜细胞的主动转运或静脉注射直接进入血液循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存在于细胞外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，由肾随尿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被肾小管重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外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渗可导致局部组织坏死、静脉血栓或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口服可导致恶心、呕吐、腹胀、腹泻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渗氯化钠输注过多，可致高钠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1:44Z</dcterms:modified>
  <cp:revision>83</cp:revision>
  <dc:subject/>
  <dc:title>内科护理学</dc:title>
</cp:coreProperties>
</file>